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89238"/>
        <c:axId val="39292250"/>
      </c:barChart>
      <c:catAx>
        <c:axId val="64089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92250"/>
        <c:crosses val="autoZero"/>
        <c:auto val="1"/>
        <c:lblAlgn val="ctr"/>
        <c:lblOffset val="100"/>
        <c:noMultiLvlLbl val="0"/>
      </c:catAx>
      <c:valAx>
        <c:axId val="39292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9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B21-A9FC-4107-9A80-CBCFE97E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A6C-E128-4CAA-BD36-28BA4FB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835-482A-4678-937A-C58C6956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33C-2635-4327-8149-D34CE29B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13A-7626-49C0-A503-D00A9D3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B0D-16FA-472D-9D02-BC10984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896-994A-40A4-B7D6-2994729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B5E-1376-450D-AA90-AF974D8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7D6-BB13-44DB-8D02-6EC67F6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14A-16A3-40A9-9F76-BCC8763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080-1A6B-4C7F-A179-13FCFE4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89E-84EB-4585-81C1-825050F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8C9D2-E811-4FF9-8230-6C9722CD95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