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217679"/>
        <c:axId val="21535508"/>
      </c:barChart>
      <c:catAx>
        <c:axId val="552176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535508"/>
        <c:crosses val="autoZero"/>
        <c:auto val="1"/>
        <c:lblAlgn val="ctr"/>
        <c:lblOffset val="100"/>
        <c:noMultiLvlLbl val="0"/>
      </c:catAx>
      <c:valAx>
        <c:axId val="215355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2176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AADE-3A54-46DC-823A-278A1EB7B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408D-CD4E-4C0B-B27B-AE422293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E9D4-58CF-40E7-88A3-1E2FDC704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25E6-DD32-412B-84AB-95D64190E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39CC-7388-4FA8-AB41-D5235BCA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BC0B-EEE3-42CF-B667-88237330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3EB7-CDBB-4413-8C95-3DB94AF5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7B5F-4643-46E2-93E7-3761A862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1050-DD69-4D14-9DF4-5A53C28D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55E7-00C9-4C2E-BA68-561185BA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E03B-224A-495B-B65F-BDFC9EAE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10E8-3CFB-4E9D-AA7B-9FE32C6A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7354A9-BA3E-4898-AC7C-93644C7819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