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94967"/>
        <c:axId val="95158246"/>
      </c:barChart>
      <c:catAx>
        <c:axId val="55894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58246"/>
        <c:crosses val="autoZero"/>
        <c:auto val="1"/>
        <c:lblAlgn val="ctr"/>
        <c:lblOffset val="100"/>
        <c:noMultiLvlLbl val="0"/>
      </c:catAx>
      <c:valAx>
        <c:axId val="95158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94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8A5-CA68-4538-ADC5-76E11EC2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A47-9B0D-42C1-BEFA-D16C145C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85B-FCA9-4C79-8E76-25E78145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49C-F063-4995-9F9C-A42CAE69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2C9-EBA1-4599-81E7-36E0E418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453-BD36-427A-9D98-EACF4951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A37-8D84-4138-9DF9-3CF636E3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8A6-0E1E-46ED-B64C-525A2E8A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C004-13F0-46AE-8CEE-DF0CD3A3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94D-5F6B-4264-9315-0948A1E5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0C4-C276-4B10-B52B-CA08F47A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325-9FFE-4564-BC71-AB8D558F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D5FF0-91E1-4505-945D-1D589E3B32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