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7906"/>
        <c:axId val="16476286"/>
      </c:barChart>
      <c:catAx>
        <c:axId val="8797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76286"/>
        <c:crosses val="autoZero"/>
        <c:auto val="1"/>
        <c:lblAlgn val="ctr"/>
        <c:lblOffset val="100"/>
        <c:noMultiLvlLbl val="0"/>
      </c:catAx>
      <c:valAx>
        <c:axId val="16476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501-C3DE-45F7-B4AB-A2752C93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AE6-2C9E-4D04-AAD4-07DBADA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0B8-7C16-4B1B-8E2F-F0724024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B5B-CE63-493B-B387-29892146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7D5-5207-4AFC-AE05-2EF6AD1F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590-2AEE-42DD-AD54-6448DA1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96C-0793-4ACF-B9E7-209D91F6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22B-0954-423D-A903-D60D03A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13E-F26E-4206-9B2C-2147047E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464-3DA0-411D-876E-21947DE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A2E-2241-4E1B-B1EE-B216FB1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370-7796-46C4-A950-52359A4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86033-496C-414E-9C23-F4BC94B431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