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16011"/>
        <c:axId val="64279502"/>
      </c:barChart>
      <c:catAx>
        <c:axId val="64116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79502"/>
        <c:crosses val="autoZero"/>
        <c:auto val="1"/>
        <c:lblAlgn val="ctr"/>
        <c:lblOffset val="100"/>
        <c:noMultiLvlLbl val="0"/>
      </c:catAx>
      <c:valAx>
        <c:axId val="64279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16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711-D09E-48FF-A251-4BECC7D8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93D-E97A-4012-A1D6-B5520A59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972-D268-4DB6-BE3F-A260D70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7E1-5957-41F5-A651-9AF23567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24C-10B7-4769-BFB0-14164CA6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402-A01E-4D30-992B-2A2EB38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73E-80D3-4865-92C0-A6DCAB0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5C9-741E-4980-B263-E2DA58CB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9B9-61A3-4918-A1E9-742708E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D92-54F5-452B-B844-1C3120B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C0B-E89A-4E37-9679-498D2E6D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C66-ACF6-4C44-BC2A-6B0F690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48450-39B2-4A9A-88EC-44F0054BA6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