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13341"/>
        <c:axId val="966192"/>
      </c:barChart>
      <c:catAx>
        <c:axId val="47913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192"/>
        <c:crosses val="autoZero"/>
        <c:auto val="1"/>
        <c:lblAlgn val="ctr"/>
        <c:lblOffset val="100"/>
        <c:noMultiLvlLbl val="0"/>
      </c:catAx>
      <c:valAx>
        <c:axId val="966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13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728-BF14-4833-9FA7-7F16E26B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034-B10D-4B5E-BF4D-928FA73B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E18-2C35-484F-BBEB-FD5905DC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4FB-87A6-4168-B7A5-22B7565A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F41-E45F-424F-AE71-3ECBB3A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132-2226-4D26-9AF4-BB911712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7F-8567-4279-BAD1-CEF6F56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03C-2F24-47F2-AFF7-0EE54B45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61C-77E3-4CB9-9951-356B48E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C8A-85CB-4144-A81B-7FB01E1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1C0-83F7-4A64-B022-1DC044F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4AB-CC8C-4857-BA3C-43A4BFC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2C8A-CB05-43A3-828C-0B14AE552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