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41207"/>
        <c:axId val="8817308"/>
      </c:barChart>
      <c:catAx>
        <c:axId val="24241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7308"/>
        <c:crosses val="autoZero"/>
        <c:auto val="1"/>
        <c:lblAlgn val="ctr"/>
        <c:lblOffset val="100"/>
        <c:noMultiLvlLbl val="0"/>
      </c:catAx>
      <c:valAx>
        <c:axId val="8817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41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EEC-B5CA-4FD3-AC0B-1BA6378A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394-7BE1-4F58-83EC-D7CBC3AA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BCB-83EF-4FAE-841F-399E3738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FBB-8774-4AEA-B4FA-1FE81C78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991-3E1C-469E-B575-D1DC0479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AE9-1609-4E7C-A0F2-257589B5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9BF-673E-4B8C-8029-82E7A76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FD4-6E9B-45CC-B242-46460F25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038-6308-47FD-AC39-C68EECF1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CA7-8399-4B48-82BA-4527B0E9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E29-949C-4B8A-AD7E-2A8C0659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151-C57C-48BE-BFFD-1BC9A734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9A312-0C8D-4BF3-9710-A316A7425F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