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50865"/>
        <c:axId val="93555188"/>
      </c:barChart>
      <c:catAx>
        <c:axId val="13850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55188"/>
        <c:crosses val="autoZero"/>
        <c:auto val="1"/>
        <c:lblAlgn val="ctr"/>
        <c:lblOffset val="100"/>
        <c:noMultiLvlLbl val="0"/>
      </c:catAx>
      <c:valAx>
        <c:axId val="93555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50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DBB-818D-46D4-BD00-2369DF4B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0B0-8BE1-402E-8C35-6E35DA7F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B29-63B0-4D51-B400-08C47E6D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79E-B8CC-4E76-AD85-D2FFE05E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946-1ED3-4EFC-B1E5-F9F0052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B4E-7DA8-47F2-893C-A7E59F7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545-89CB-4665-8D47-8C447BD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0C0-86E4-409B-A9DD-20C850B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6AA-D954-4EC2-9299-3E5A4925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D3F-3659-481F-9F1E-FA9342E2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324-DF96-4D3B-9A83-8624104C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5B6-FD28-476D-9205-FF2CA0C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4D7A7-D4A4-465D-A04D-02036F2258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