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86745"/>
        <c:axId val="10244442"/>
      </c:barChart>
      <c:catAx>
        <c:axId val="33486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44442"/>
        <c:crosses val="autoZero"/>
        <c:auto val="1"/>
        <c:lblAlgn val="ctr"/>
        <c:lblOffset val="100"/>
        <c:noMultiLvlLbl val="0"/>
      </c:catAx>
      <c:valAx>
        <c:axId val="10244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86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009-8947-4023-81BD-2F88DB3A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1BF-B88E-4298-9F3F-4E1A5FE9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7E7-518D-40B4-8649-CE9ECF4A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5BF-1063-4923-BADF-982E2265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D5D-0C43-4341-8A97-88E36082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BA7-AD4B-4335-A7A2-B0F77CCC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594-3FAE-4C90-9C46-CAB4DB15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5A9-8B8F-4540-90D5-704962C0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594-6444-4DFB-8876-1C2401D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B02-2C55-44C7-A325-09EFC38F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CE2-6616-4A2C-8B79-4CF89C57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F97-9B34-4B64-8225-43F8069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43C9A-2EA4-460E-A751-36674BA49C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