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98729"/>
        <c:axId val="90375552"/>
      </c:barChart>
      <c:catAx>
        <c:axId val="86198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75552"/>
        <c:crosses val="autoZero"/>
        <c:auto val="1"/>
        <c:lblAlgn val="ctr"/>
        <c:lblOffset val="100"/>
        <c:noMultiLvlLbl val="0"/>
      </c:catAx>
      <c:valAx>
        <c:axId val="90375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98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B82-8F26-44B1-A528-BABA5DCC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E3F-842C-4800-8973-57F82735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7EE-3919-4A63-8204-F8B484BB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82F-6B1C-4DDE-AE08-4BB0AEEE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3F3-BF68-4D69-84EF-0AF7D7E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51B-5C69-47F6-ACE7-60E87256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2B8-8321-4AF1-90AA-59BFA176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AF4-3A8B-4D14-9DB5-BDDD0B8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6CB-9D2A-4815-AFF8-D6DA48F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248-33FB-44D2-B80F-939F7200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1CB-B16A-4F9A-A4C9-553AB412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E32-EF65-4B41-919D-7A9E9CB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4D21F-279A-4325-8F48-BD6DB64AEC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