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980533"/>
        <c:axId val="41507923"/>
      </c:barChart>
      <c:catAx>
        <c:axId val="329805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07923"/>
        <c:crosses val="autoZero"/>
        <c:auto val="1"/>
        <c:lblAlgn val="ctr"/>
        <c:lblOffset val="100"/>
        <c:noMultiLvlLbl val="0"/>
      </c:catAx>
      <c:valAx>
        <c:axId val="415079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805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AC19-FC1A-493A-B35A-FEAC40D0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654-BE5E-4472-97FE-D78FDE11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472-E6E5-47F3-816D-2BA1BFB2F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5F1E-C5CC-433F-B2A6-315E04CD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B19F-EF07-47C2-87B4-7C7ADBD4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AE4-346D-4277-8007-43ACC3AE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EDBF-3EAE-4295-904C-B6D1B583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422-F15C-4E02-9100-62D2786A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403-58DA-43B0-846B-83E485D7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69D-CCF8-4FBE-B3E0-A51F686B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9EA-8563-4960-9A51-AB13AC50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54C-A9BD-4F88-AC1C-CEF25FF4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9CA99-2EC8-4EAF-8145-5E9FD4B3A1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