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09267"/>
        <c:axId val="58562106"/>
      </c:barChart>
      <c:catAx>
        <c:axId val="80109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62106"/>
        <c:crosses val="autoZero"/>
        <c:auto val="1"/>
        <c:lblAlgn val="ctr"/>
        <c:lblOffset val="100"/>
        <c:noMultiLvlLbl val="0"/>
      </c:catAx>
      <c:valAx>
        <c:axId val="58562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09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12A-E415-4ED4-B275-5E6FE190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CF7-A4B7-41E6-8A4E-F0A2B810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396-6F7B-4A9C-89F7-1CF39B48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A35-56EF-40B4-B72A-AD4FB010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1A3-5B94-4B7A-84BE-718D7C26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17C-ACCA-4116-ADDA-3A4250AD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80D-92FF-4CA8-AA40-42E3FD0E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1D2-9918-452F-9696-50CFC423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8DE-6CD8-437F-886C-44A67731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043-6BE6-43AE-9ED6-E8EE8882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324-93FB-4EC2-9950-2EE3655B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C95-85B2-458B-9386-E4D8A873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F8D65-0F05-4356-983B-B1AB2E6C66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