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58969"/>
        <c:axId val="7883547"/>
      </c:barChart>
      <c:catAx>
        <c:axId val="13958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3547"/>
        <c:crosses val="autoZero"/>
        <c:auto val="1"/>
        <c:lblAlgn val="ctr"/>
        <c:lblOffset val="100"/>
        <c:noMultiLvlLbl val="0"/>
      </c:catAx>
      <c:valAx>
        <c:axId val="7883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58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298-1F0A-444F-A89D-78493BE2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72DC-E07D-46AC-8705-59045CAF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729-6761-49EF-A7E5-830E403D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C1F-CA41-4C9F-A3C6-6176F36F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036-3D0C-439C-93EB-8A99DE91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E6EB-0E62-41C6-9A9F-73125DE7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F85-9403-4629-A74D-F3D7B235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1AA-8B49-4C44-9569-14FA933F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B80-BA31-4581-BC60-B296A98C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A3E-FEF4-42B0-AB39-B38C64FA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43A-62CD-44A8-81BE-0393E567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29C8-B4EF-4C07-B790-6FABC69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4029A-C99E-4D8F-B3A1-08017B1C7E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