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34975"/>
        <c:axId val="38446685"/>
      </c:barChart>
      <c:catAx>
        <c:axId val="66634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46685"/>
        <c:crosses val="autoZero"/>
        <c:auto val="1"/>
        <c:lblAlgn val="ctr"/>
        <c:lblOffset val="100"/>
        <c:noMultiLvlLbl val="0"/>
      </c:catAx>
      <c:valAx>
        <c:axId val="38446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34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136-0BE4-46EE-8443-7123B24B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20A-C209-4F91-8DB5-B6DEBBA2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7CA-7A3A-4D4C-85FB-B455D4B5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C041-E51B-4E30-A225-D78898C2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A85-AF75-4640-B1A7-3478D839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FC5-ED4C-45FF-BB33-2815A557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FEB3-A2EF-4636-879E-B2214CDC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6F7-369C-4256-8678-91CC0D5B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DFC-474D-4AAD-9B4D-02A3A12D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CFA0-874C-4DCB-8E0B-8AA6C421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8C1-96FF-4951-BBF8-26F5FD20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920-A9C2-41C7-AC19-930F3028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EFAFC-4A19-4FEA-853A-F1FEE0521A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