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62015"/>
        <c:axId val="31785986"/>
      </c:barChart>
      <c:catAx>
        <c:axId val="71862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85986"/>
        <c:crosses val="autoZero"/>
        <c:auto val="1"/>
        <c:lblAlgn val="ctr"/>
        <c:lblOffset val="100"/>
        <c:noMultiLvlLbl val="0"/>
      </c:catAx>
      <c:valAx>
        <c:axId val="31785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62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17C-5B4E-4768-A9E7-6D3C9EEE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5DE-56CC-4DB6-AEED-45F7000C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95D-3B06-47D7-AD1E-9A33D9CF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170-17EA-4DF0-99DB-203B4C85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821-8C0F-4937-8B62-682E38F1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48D-634A-4B75-8D8C-FEBEBA0D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0B6-3164-4AE5-9A7F-61A25DBB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53F-7E8F-480F-8A24-12699A97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AC3-376A-4708-AFEE-027FA457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61B-6C4B-4937-9283-3AB8786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972-5E10-4F3F-BA44-1B602BA0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C11-6BC0-42BC-9A74-37CB5E98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4EA03-60A4-48F1-ABAB-8AD72EA1C5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