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420236"/>
        <c:axId val="90547681"/>
      </c:barChart>
      <c:catAx>
        <c:axId val="974202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547681"/>
        <c:crosses val="autoZero"/>
        <c:auto val="1"/>
        <c:lblAlgn val="ctr"/>
        <c:lblOffset val="100"/>
        <c:noMultiLvlLbl val="0"/>
      </c:catAx>
      <c:valAx>
        <c:axId val="905476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4202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3147-4491-4DD5-9B31-C2F3431EC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DFA7-06BB-41F9-83F9-E8001B41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E50D-81C7-40AE-972E-CAA1DBA1E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7CA2-38EC-402C-9125-6F0BE1BEC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5D6D-E188-496B-ADD8-586E0953E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69B1-AC96-41D8-B3DF-C7F6CAA55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5C2E-972F-404B-8D38-B94C886E0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9C9F-C16F-4024-816E-885C61692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9D8B-6AEB-44C0-822B-4784A5CF4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223A-E0E7-419F-871E-2780C51E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4811-29D7-42A3-ACA8-B59CBB49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F6DC-3424-4A4D-94EE-9B55266F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54BE94-5A3A-450A-9202-C1BEEB8A2D8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