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7681398"/>
        <c:axId val="42425163"/>
      </c:barChart>
      <c:catAx>
        <c:axId val="7768139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425163"/>
        <c:crosses val="autoZero"/>
        <c:auto val="1"/>
        <c:lblAlgn val="ctr"/>
        <c:lblOffset val="100"/>
        <c:noMultiLvlLbl val="0"/>
      </c:catAx>
      <c:valAx>
        <c:axId val="4242516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768139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AC526-B6DF-4EC6-A1B6-DE99DA551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735E5-EEA4-462E-BDAB-76FB7FF3D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B837E-5CD4-4BA0-A786-9B43D7CE1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B982A-69FE-49A5-BA5B-B5E6EEDE9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CA30A-617E-4807-952F-4DAA814F6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3292B-9D23-4BEA-BF6E-716B9AF1D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FA040-986F-4EF7-9C9A-374F8D880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C4D9E-DF6E-4EFE-AE84-B03A8C878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85505-0487-4C26-B3CF-90EACAD4C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0A656-8822-4C80-91B6-136C67B93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3E800-9AC4-4EC8-8E39-BAB2B2C67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3A5E4-D7C0-4FCF-8A8E-3CF289D68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A09194-A271-4B7C-B056-BFDD430503D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