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76728"/>
        <c:axId val="34407870"/>
      </c:barChart>
      <c:catAx>
        <c:axId val="66076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07870"/>
        <c:crosses val="autoZero"/>
        <c:auto val="1"/>
        <c:lblAlgn val="ctr"/>
        <c:lblOffset val="100"/>
        <c:noMultiLvlLbl val="0"/>
      </c:catAx>
      <c:valAx>
        <c:axId val="34407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76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9A2-398B-44CF-A35F-E29D20ED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236-89C3-4930-9DE0-DE42043B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406-5C5D-49B0-961A-C3069DDA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6FD-B827-4B24-B0CD-AE3A54E9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6B5-357D-44AC-B0CB-D680D560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096-D475-433D-9CEF-4E484FC7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DFD-75FF-4FDE-A419-332EAA93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562-0DBD-4A12-B095-EA5D6977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984-6029-4F82-87AA-791CE07A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66E-E2FB-4C1D-93CB-0788BF9A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E40-DE04-4C4E-AEBC-0A6861B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268-C913-4D3A-BBD6-4D1FE487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6532B-9422-48E2-A114-E1AB592B0B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