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54650"/>
        <c:axId val="81848449"/>
      </c:barChart>
      <c:catAx>
        <c:axId val="757546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48449"/>
        <c:crosses val="autoZero"/>
        <c:auto val="1"/>
        <c:lblAlgn val="ctr"/>
        <c:lblOffset val="100"/>
        <c:noMultiLvlLbl val="0"/>
      </c:catAx>
      <c:valAx>
        <c:axId val="818484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546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7C1-0FC6-48C4-8CFB-7C27F63A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F7A-4615-4607-A50E-D0E03969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B56-FBF9-4FCF-A2EB-2D083CCD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BC18-906F-4C34-9294-4C35F1E2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0F5D-04DF-489C-A2FC-9459E3A2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027-F241-46E0-A742-15613DF6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D44-C442-4DB7-AD3B-08AEB083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A21-2F58-40AD-810A-92621AF2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144-CED7-422E-9EA9-97EBBDE0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771-F40C-44EC-BF3D-2C324AAD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5C1B-E458-4A9B-AC1A-80313A41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219E-E1C8-490D-B6DA-AB27C553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7C7E3-FE47-46E9-AC27-5252B4BA99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