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52107"/>
        <c:axId val="44318331"/>
      </c:barChart>
      <c:catAx>
        <c:axId val="57952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18331"/>
        <c:crosses val="autoZero"/>
        <c:auto val="1"/>
        <c:lblAlgn val="ctr"/>
        <c:lblOffset val="100"/>
        <c:noMultiLvlLbl val="0"/>
      </c:catAx>
      <c:valAx>
        <c:axId val="44318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52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80E-5762-4EAC-9145-0EFDB671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4DA-9E4E-4A4E-99A7-E862FE73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6FB-BABA-4835-A392-556ADC41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230-76D0-422B-9331-20864FC1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122-4649-49D6-A84B-5EEC6A9B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0D2-F705-4C31-8EDE-B6120F1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49F-4000-40B2-8A34-1071FB71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825-3D14-486D-B153-769ED787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9E5-2F2E-4912-A5FE-3EB849B3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5AE-74C6-4AA3-9BEE-A3849057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46E-D51D-4A15-97C4-B32963F2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4AA-2F20-42E0-B9C6-A65C44A6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74F81-C728-4F21-8ED5-7D509AA1A4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