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26421"/>
        <c:axId val="9937887"/>
      </c:barChart>
      <c:catAx>
        <c:axId val="87726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37887"/>
        <c:crosses val="autoZero"/>
        <c:auto val="1"/>
        <c:lblAlgn val="ctr"/>
        <c:lblOffset val="100"/>
        <c:noMultiLvlLbl val="0"/>
      </c:catAx>
      <c:valAx>
        <c:axId val="99378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26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FBA-B275-4AF5-9FFD-044EDD9E2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CA62-5336-4B6D-B82C-13550654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51A3-5FE8-4668-8DC4-3BA1CBC2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F382-BF3C-4FBD-89CD-D7BD25D50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03D-F12B-4E42-98B6-CBC1220D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77B-A58A-4EC0-87B1-5521B4C3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2F03-5ADD-498C-82B7-8E46E80C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8786-EA14-414A-84B6-821726531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9D3B-2E59-4F34-827D-852E7589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0AAD-2C0A-4DBD-B48D-28875096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6C42-D66E-4C81-AD7B-CD00D526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0730-CA9A-452F-B146-BEEAA9C6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EE6F4-0F5E-4623-A5AF-9B572ECDE6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