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94731"/>
        <c:axId val="87489611"/>
      </c:barChart>
      <c:catAx>
        <c:axId val="25994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89611"/>
        <c:crosses val="autoZero"/>
        <c:auto val="1"/>
        <c:lblAlgn val="ctr"/>
        <c:lblOffset val="100"/>
        <c:noMultiLvlLbl val="0"/>
      </c:catAx>
      <c:valAx>
        <c:axId val="87489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94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466C-BB23-4E17-9D10-E4A11263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AA7-59BE-4877-B64D-50ADDA06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FCCC-1757-4C29-80F7-3BB36565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BCA9-F9F6-4B9C-A979-FF2579AD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D690-EC64-46E7-8C47-4BE5B14A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A3B-8546-47AE-A519-EAFF1848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CFEC-7D5F-4859-975C-E8247B34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413-05BB-46E8-9858-1A7B7F27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A34A-AE8B-4BA7-B84A-6AAEC204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1283-97D3-48CE-A56D-8F5683B4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D084-8639-4204-8103-90171BBA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1A02-8035-4B09-B08F-9EF05C68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C37E8-1759-4585-B2E2-E4EB0DE05E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