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88559"/>
        <c:axId val="19607112"/>
      </c:barChart>
      <c:catAx>
        <c:axId val="80388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07112"/>
        <c:crosses val="autoZero"/>
        <c:auto val="1"/>
        <c:lblAlgn val="ctr"/>
        <c:lblOffset val="100"/>
        <c:noMultiLvlLbl val="0"/>
      </c:catAx>
      <c:valAx>
        <c:axId val="19607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88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249-2D7E-44C8-ADCC-5DC2CEE0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7BF-CFFD-4B6C-9BC5-37A9C133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AC0-7A04-431F-BA66-32671D3B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D8C-AA3B-4EB9-9AFF-C8178AE0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416-C50A-47A6-AFB3-C6B8E49A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7B7D-67C8-48B9-8CDA-85665FAA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E9F-458B-4EC6-8D97-B5B208E5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71C-61E7-485A-B9DD-24B8F600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559-F4E8-4B2B-901B-D86C407E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274B-A814-4B0F-B1F9-A29CF90A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FA1-D195-435E-A8F1-CB1EEDBE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A846-A1B2-4CA8-A8CB-DADC2AC9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66E54-06BE-4759-8E15-987B043B78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