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9437"/>
        <c:axId val="31147614"/>
      </c:barChart>
      <c:catAx>
        <c:axId val="97594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47614"/>
        <c:crosses val="autoZero"/>
        <c:auto val="1"/>
        <c:lblAlgn val="ctr"/>
        <c:lblOffset val="100"/>
        <c:noMultiLvlLbl val="0"/>
      </c:catAx>
      <c:valAx>
        <c:axId val="31147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94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54B-D9ED-479B-B386-A5DAA4C8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3D2-0858-4FC3-8833-20A96EB8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A16-82C7-4107-B87D-F8B004E6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EF6-7194-49B1-85FD-6FFC2420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B7B-6F28-4969-8F57-ACF4E704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BAD-4C9A-48DB-B9BB-01837892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7D1-3B57-4C0E-AB1D-139CA3D0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4C3-E48F-457A-B380-201342AF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C4FE-FE93-4CE0-9A56-77B0235B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2C5-378F-4160-8502-1FFAFC30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FC3-4564-47AF-AF7C-E280BB4B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078-4002-49C0-9518-9045C90D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D06E0-F28D-4CD0-B9C9-2294B53A3D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