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34996"/>
        <c:axId val="8325015"/>
      </c:barChart>
      <c:catAx>
        <c:axId val="53134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25015"/>
        <c:crosses val="autoZero"/>
        <c:auto val="1"/>
        <c:lblAlgn val="ctr"/>
        <c:lblOffset val="100"/>
        <c:noMultiLvlLbl val="0"/>
      </c:catAx>
      <c:valAx>
        <c:axId val="8325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34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588-11C5-4383-8C02-7BEEB0FE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5AFA-4227-4E32-A98B-8A1C54D6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7DF6-90F3-4F57-BD94-D990FB62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8C5-C495-44EE-A680-85ACDF68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D6-94C6-4A05-AC43-0A3A7400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FCA-E719-4BF1-839E-F7AFB476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205-B0EE-4FB0-B0FE-E72757F0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3E4-84FF-4FA8-8B28-82A27BBD8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BFB-30CC-467E-A740-96259FD4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838-F2A0-421B-BE77-203DE69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5529-6AFB-43C6-BD41-BF22269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A66-C5E6-4901-BDD1-3349DB3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004C6-EC3D-445A-A91A-950E8A3128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