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94160"/>
        <c:axId val="87679014"/>
      </c:barChart>
      <c:catAx>
        <c:axId val="53294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9014"/>
        <c:crosses val="autoZero"/>
        <c:auto val="1"/>
        <c:lblAlgn val="ctr"/>
        <c:lblOffset val="100"/>
        <c:noMultiLvlLbl val="0"/>
      </c:catAx>
      <c:valAx>
        <c:axId val="87679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94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D02-44A1-414E-848A-2D705568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145-8FF1-4025-A72A-C49D8989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AD1-66C2-42F9-AD6A-9E95BC16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90A-F5BC-44A5-89BD-FA28A411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711-C70B-4E71-B3DD-5A4DB5FD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CA5-2633-4B8A-961F-3C5798C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556-C239-48B7-9B7B-AD39F1C4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7BA-2172-4C22-B63C-EAE801B2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4A3-74A7-482D-A3B0-6FD4159E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57A-C701-4CEF-B998-FBBB68F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891-57BF-4A19-911B-DEC3643E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057-49EE-4A1E-92F5-85467BF8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67C10-4344-4D82-B3E7-6E09307E4F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