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483852"/>
        <c:axId val="37901847"/>
      </c:barChart>
      <c:catAx>
        <c:axId val="704838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01847"/>
        <c:crosses val="autoZero"/>
        <c:auto val="1"/>
        <c:lblAlgn val="ctr"/>
        <c:lblOffset val="100"/>
        <c:noMultiLvlLbl val="0"/>
      </c:catAx>
      <c:valAx>
        <c:axId val="379018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838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54F7-FF90-4585-89E3-0E9D6915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63F-0E85-4CB5-B35B-17210FA1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0DDD-0280-4B8B-9513-F72FB6D0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34F3-DAB8-42C9-A7D8-AE7114BA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9BBF-F695-4122-95BC-27ECE248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A4A7-6148-436A-9FA9-CAE84B53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8CC2-9732-45E9-B24C-9A689511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F171-C2CB-4B97-B5B9-C4CCE3DA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1AC-4299-47D2-BD73-5B34BE9F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B42-FC42-4392-9A0D-BFC46272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E742-AE02-4D89-91C9-B7E9D41E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B80F-6062-44C5-959F-8C6FF7A3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D46D7-F28E-485F-A0AA-F67FBE0D72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