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61375"/>
        <c:axId val="91872816"/>
      </c:barChart>
      <c:catAx>
        <c:axId val="40361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72816"/>
        <c:crosses val="autoZero"/>
        <c:auto val="1"/>
        <c:lblAlgn val="ctr"/>
        <c:lblOffset val="100"/>
        <c:noMultiLvlLbl val="0"/>
      </c:catAx>
      <c:valAx>
        <c:axId val="91872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1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29D-B5AA-41F3-A578-EED510D0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8BA-EB24-4F47-A91A-57D4796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CD0-1F98-43E0-8F42-F9355494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432-F966-4E25-B317-EE730836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251-A8EE-4AA3-8AFD-816B4D18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DCC-9056-4B98-83C4-0F91471E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9DF-355D-4016-B87B-43314A27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39F-C218-4BC9-896E-0E4D43DB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6A5-6770-4B0C-88FA-7FE2CBD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DDA-193B-4DDC-8CA8-A310D6D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25E-5481-4933-8722-6D44C1B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7B7-42F4-4EB0-86F5-1ACE9BB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EC55E-CCE7-4F2D-90C4-8B090FE7B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