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6802"/>
        <c:axId val="93549105"/>
      </c:barChart>
      <c:catAx>
        <c:axId val="8506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49105"/>
        <c:crosses val="autoZero"/>
        <c:auto val="1"/>
        <c:lblAlgn val="ctr"/>
        <c:lblOffset val="100"/>
        <c:noMultiLvlLbl val="0"/>
      </c:catAx>
      <c:valAx>
        <c:axId val="93549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6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FD2-B270-406B-809C-FEB73D82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16C-7B7A-40DF-AE6B-EE020FE1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0C5-825C-4DC1-80CC-82A436C0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108-43A0-45FF-9041-FF2154DD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4DD-137C-44D3-A3CD-2B4CAA99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A48-1D53-4A8B-9E4E-2BCC44D4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19B-5D36-40F2-8D19-605D360F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709-A65A-4DCB-8C9D-DDC89CC7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0EF-1314-4EC7-AACC-9F9BC538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A8A-254B-4B53-8756-52AFE93F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4A4-E716-4DD9-BC61-ED7B868C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416-2CA3-4081-AA02-EBCBC14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78466-6998-42CD-96B1-E443D17852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