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98767"/>
        <c:axId val="18203873"/>
      </c:barChart>
      <c:catAx>
        <c:axId val="68998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03873"/>
        <c:crosses val="autoZero"/>
        <c:auto val="1"/>
        <c:lblAlgn val="ctr"/>
        <c:lblOffset val="100"/>
        <c:noMultiLvlLbl val="0"/>
      </c:catAx>
      <c:valAx>
        <c:axId val="1820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8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2A8-429C-4BEA-A762-649E6077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5CC-82DB-46C9-9F60-3830D500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1A3-AF7D-4ED2-9206-D9114583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0CF-5A6D-4C05-BF9D-BC5EB71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9EB-4120-4D4A-85FF-221E5F8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246-788E-4658-9697-D3E7552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F8E-7AEC-44A0-9575-46046E7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DAE-14DB-4858-8A84-84AD500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BBE-F5F4-4FBF-8B95-0B5FC16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02B-4BAB-4940-8E77-6AF0F50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460-8851-4EAE-8512-E39FBF1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D4A-3D28-4389-B171-573168A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1683E-C5EF-4BF5-A1DD-5632D85BC3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