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0201"/>
        <c:axId val="35460"/>
      </c:barChart>
      <c:catAx>
        <c:axId val="1590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60"/>
        <c:crosses val="autoZero"/>
        <c:auto val="1"/>
        <c:lblAlgn val="ctr"/>
        <c:lblOffset val="100"/>
        <c:noMultiLvlLbl val="0"/>
      </c:catAx>
      <c:valAx>
        <c:axId val="35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0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2F3-5117-4033-9873-F57C2E3F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023-07CE-402A-9029-F15DA366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444-61B7-4953-8EFA-DE1CB023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D16-A0ED-4587-A788-764650CF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FD3-7D7E-4C64-95CD-4C808007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2C5-93FF-46CF-961B-32DECCD5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A70-C1BF-4A4D-AFAA-A8DF8FC5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07A-CB15-40BE-BCFA-235B7C74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F8E-7EEB-414A-B90F-BE8A3400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36D-7C54-45F8-84BE-544018D6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6F2-E880-4910-B062-7E06984A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49D-A901-492C-BFAE-818D9A80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81EF7-1496-4DBD-A695-27BAD85E37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