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505258"/>
        <c:axId val="48575143"/>
      </c:barChart>
      <c:catAx>
        <c:axId val="865052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575143"/>
        <c:crosses val="autoZero"/>
        <c:auto val="1"/>
        <c:lblAlgn val="ctr"/>
        <c:lblOffset val="100"/>
        <c:noMultiLvlLbl val="0"/>
      </c:catAx>
      <c:valAx>
        <c:axId val="485751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5052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957B-35CC-47A0-B567-BE2BBDA60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9DC1-73BA-496D-8270-1ADA2254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0614-B1E4-441A-8DC4-BE37D0F4A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1533-3D12-4C7B-B209-B56BB0E40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DF71-BC9C-4CC1-9DDC-B054D666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51B0-3EAD-4074-840E-227F8AAB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6095-067F-433D-BD3F-D217507E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B593-5D7A-491E-B748-E3FB8270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0967-1533-4101-9820-27AE77E0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5337-2A65-4393-B048-26FDF3B5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8B38-275C-4F5E-984C-77D401AC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A19E-B276-4893-B28A-CF8DE518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288111-B560-48B8-908E-5FB758C63C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