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48865"/>
        <c:axId val="35850418"/>
      </c:barChart>
      <c:catAx>
        <c:axId val="89148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0418"/>
        <c:crosses val="autoZero"/>
        <c:auto val="1"/>
        <c:lblAlgn val="ctr"/>
        <c:lblOffset val="100"/>
        <c:noMultiLvlLbl val="0"/>
      </c:catAx>
      <c:valAx>
        <c:axId val="35850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48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ECA-7AD0-4631-908A-90B13D76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E1A-2838-411F-B385-F062B12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D5A-2729-4517-B732-6A3D2A74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D76-C7FE-4CBA-83AB-D2E53EC4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77E-E4B2-42AC-89E2-83E9F841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E0D-A76B-4E7D-A91D-0A65E9BD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610-9A17-4ABD-9BB0-8705C1B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DE3-00C5-4E9D-9881-B02BBA67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E89-1ECC-4CC5-BC6E-0A55F4E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F14-DC93-4E7D-A8B1-872597C1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A28-26A2-481A-939A-63CD893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B9A-E04F-47CD-8D08-7825719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13A33-D20F-4363-93F1-CFE96E642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