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22738"/>
        <c:axId val="45301506"/>
      </c:barChart>
      <c:catAx>
        <c:axId val="18227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01506"/>
        <c:crosses val="autoZero"/>
        <c:auto val="1"/>
        <c:lblAlgn val="ctr"/>
        <c:lblOffset val="100"/>
        <c:noMultiLvlLbl val="0"/>
      </c:catAx>
      <c:valAx>
        <c:axId val="453015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27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C588-9EBC-4F62-AAA2-0DCCF112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2C3F-D1BF-4A54-B4FB-9106A90A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03AD-56F2-4B62-A47D-9874A22D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5E24-5EBC-4CCF-B6D5-58251417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DF0C-D58B-4A28-874D-6813E9FE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75CD-7CE1-47B5-B2CB-0A7C9490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7D17-984F-4F2E-8AB5-2C5B4E3C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3209-62CA-4545-B5AF-8C45A93F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C12C-F4E7-4AE7-B6E7-56C80F43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CF2E-C013-4D82-9F27-DC687BDC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1A3D-13F0-469B-82FA-E9B8DE41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409F-0AE8-4B2A-A9EB-7CFB747A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E30A2-3C4C-431B-BA02-65A6917DC6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