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10521"/>
        <c:axId val="26392562"/>
      </c:barChart>
      <c:catAx>
        <c:axId val="33310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92562"/>
        <c:crosses val="autoZero"/>
        <c:auto val="1"/>
        <c:lblAlgn val="ctr"/>
        <c:lblOffset val="100"/>
        <c:noMultiLvlLbl val="0"/>
      </c:catAx>
      <c:valAx>
        <c:axId val="26392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10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220-29B5-46E5-A256-FF211661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3E3-38ED-4895-B4AA-1DC63D86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7CF-544C-49E1-9E63-52493B82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168-D474-46D1-B302-0F3E1215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B5E-D840-4F55-9060-2A498D4B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8D9-7016-4554-88EB-46EB4A59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960-F932-4714-A234-EAC74A37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798-C7FA-4EDF-A6F1-895A5A20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398-805F-4A1A-8F0A-37E9644D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78A-67AF-473D-B74C-CB5B9964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ACD-58D0-4CE9-80E5-094F71F7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644-7701-4AB5-8E16-1C5E748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DCAE3-0256-4289-AAE6-F1E93A7242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