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79965"/>
        <c:axId val="78018775"/>
      </c:barChart>
      <c:catAx>
        <c:axId val="56879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18775"/>
        <c:crosses val="autoZero"/>
        <c:auto val="1"/>
        <c:lblAlgn val="ctr"/>
        <c:lblOffset val="100"/>
        <c:noMultiLvlLbl val="0"/>
      </c:catAx>
      <c:valAx>
        <c:axId val="78018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79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ACD-BE92-4FBA-9D85-687F0556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A82-8DDA-4C8A-AF6A-3298EE15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25E-AB5F-499A-B9BF-DAB63B48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F95-BAC9-4FB4-A2CD-11422E4D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76C-7D34-413B-9F9E-674166B0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691-20F5-4DF6-A66F-DD89C7F0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7EA-BB6B-4B88-984E-7BDF648D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9D9-4615-4F4C-90D7-3BAA0CAF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E72-89E9-4043-9D3A-AB49CA14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D0D-CF2D-457F-B1A6-176ED6E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8C3-A474-43A4-B54C-0E426EFB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B4B-2E08-4FA0-B489-54FB0FE1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6732E-EAE0-4041-A967-3F7855DF77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