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19453"/>
        <c:axId val="1403071"/>
      </c:barChart>
      <c:catAx>
        <c:axId val="50819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3071"/>
        <c:crosses val="autoZero"/>
        <c:auto val="1"/>
        <c:lblAlgn val="ctr"/>
        <c:lblOffset val="100"/>
        <c:noMultiLvlLbl val="0"/>
      </c:catAx>
      <c:valAx>
        <c:axId val="1403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19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2F1-472E-43B8-992C-ACC4D7A8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BCF-FC7F-4B9B-807E-C37F1BD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2F9-C449-4940-83D9-B4D66369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515-A7D0-438B-B5AD-F45FD5C8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2B9-2F12-47ED-89F5-A220C8A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30E-2112-4B82-8125-350B786F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F53-2DA9-478D-B64F-7B44B78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206-9367-4420-9EEB-58CFD231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167-77F8-4EC1-B0CB-7D1A8805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788-EFF2-4722-B70E-E6A84F0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7E2-0860-4BC5-8264-E3CD6D7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CCE-0737-4947-A929-322F52C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7B5A9-03B7-48DA-9BD2-0BA4DCF427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