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06954"/>
        <c:axId val="66936218"/>
      </c:barChart>
      <c:catAx>
        <c:axId val="59906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36218"/>
        <c:crosses val="autoZero"/>
        <c:auto val="1"/>
        <c:lblAlgn val="ctr"/>
        <c:lblOffset val="100"/>
        <c:noMultiLvlLbl val="0"/>
      </c:catAx>
      <c:valAx>
        <c:axId val="66936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6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DC8-AC09-4154-BEBA-7D7C65B6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6FD-1101-499D-9E7F-8172B8F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DE3-3198-4682-998F-F5E23D6F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572-92D7-495A-A894-C4B4C13C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DEE-0768-43DD-8A2E-D5714D8F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A24-902E-467E-85C7-825D742E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56F-43AE-4F01-B372-FC2685D2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345-3CC6-4A28-A940-37AF7346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CB8-7289-4BD6-A844-BC22709A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F5A-71AF-4C8B-98EB-658EE022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672-006A-4ACC-838F-C1DB0DF0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4A3-3A1E-45EF-8121-09CD1FC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7BA4D-BD0D-4CFF-8B75-D9308661CC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