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61395"/>
        <c:axId val="94480546"/>
      </c:barChart>
      <c:catAx>
        <c:axId val="647613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80546"/>
        <c:crosses val="autoZero"/>
        <c:auto val="1"/>
        <c:lblAlgn val="ctr"/>
        <c:lblOffset val="100"/>
        <c:noMultiLvlLbl val="0"/>
      </c:catAx>
      <c:valAx>
        <c:axId val="94480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613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FD8-0815-428E-B2D1-19B2D446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4EBF-E264-4687-B9E4-B4FBA2F7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AF8-AAD6-4D55-94B8-45F7E5FB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BBD2-7F02-4C3F-BCAC-5A709B40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A73-C876-442B-A4AD-A2A12CC8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0D88-7563-4847-BF7E-CE8A8981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F066-F08C-494D-A0D2-445C0F4D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E3B-727D-4E15-AF33-C4D4DD9A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373-7E30-4AF5-9474-954BC9FE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B101-5BD9-4F63-B2B4-30F89E42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5BF5-0FA6-4A8F-801A-73ACA91B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B791-3FE8-4712-A8E4-4A77E9A1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D79FA-694D-4F54-A72D-CEDECA1A87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