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50601"/>
        <c:axId val="41133242"/>
      </c:barChart>
      <c:catAx>
        <c:axId val="27950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33242"/>
        <c:crosses val="autoZero"/>
        <c:auto val="1"/>
        <c:lblAlgn val="ctr"/>
        <c:lblOffset val="100"/>
        <c:noMultiLvlLbl val="0"/>
      </c:catAx>
      <c:valAx>
        <c:axId val="41133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50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09D-74A8-467A-AFC8-58A4E752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975-5846-442E-A76C-8DC734E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740-38A6-4550-A239-ABB0E68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AC8-0E74-40C8-9289-F945C883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362-08A1-4B05-B6C8-314036F9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2F4-59DD-4AE0-AC1F-60B0E32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9F8-1E48-4E37-97E3-4E894310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F86-220F-47D8-8FA3-7B7373A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790-714C-4F8E-B44E-980168F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3EB-7839-47CE-998F-E332910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349-10D2-403A-9F00-C9D9013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B37-6549-4C2C-99C3-73DDE4B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C53F5-466E-4B1C-8829-A49304B98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