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4293"/>
        <c:axId val="39555917"/>
      </c:barChart>
      <c:catAx>
        <c:axId val="57242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55917"/>
        <c:crosses val="autoZero"/>
        <c:auto val="1"/>
        <c:lblAlgn val="ctr"/>
        <c:lblOffset val="100"/>
        <c:noMultiLvlLbl val="0"/>
      </c:catAx>
      <c:valAx>
        <c:axId val="395559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42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C32-E537-4396-9098-494668CB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0546-E97F-479A-90BF-87DE576B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7A63-615E-4849-948E-64546493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C866-6476-4180-BF3D-34372C02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B65-64FC-4311-98F7-F09442DA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1AA-B2AB-49C4-A783-56BA9C98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285-F028-4709-ADCB-B77C25A9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391-EF16-4613-AF6A-B882329E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0A3A-F39A-4144-8BA4-B31BA940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BEC-9B69-4B42-B322-23B124CA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1725-410A-410B-A5A4-EB2DBC6B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447-A022-48BC-8CCC-DD18CC87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8A318-64F0-4D4C-9846-67F2FB672D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