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26370"/>
        <c:axId val="74233536"/>
      </c:barChart>
      <c:catAx>
        <c:axId val="41126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33536"/>
        <c:crosses val="autoZero"/>
        <c:auto val="1"/>
        <c:lblAlgn val="ctr"/>
        <c:lblOffset val="100"/>
        <c:noMultiLvlLbl val="0"/>
      </c:catAx>
      <c:valAx>
        <c:axId val="742335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26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DDC-C369-4D3B-9C14-FB9A7A94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F8D-C409-45A6-BD65-C7B1A93F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366-53D7-4400-A1AD-FDDA40E0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3CD-B619-4649-B43F-672E6F47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16C-90F3-4AF1-85E4-C3B583FE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E397-B98B-499C-A6BC-D75A420C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FC3-DA78-47E1-A687-A1692D8F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C04-2A77-47B6-B239-06085839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340F-1037-4A6C-94D6-AD2D4E3B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48C-04D0-4C7A-B39B-85E37EEC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8FE-0EC7-4804-B517-00E4611A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17A-0D44-41AF-BFFF-8F847AC2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BCD32-416D-459F-9D00-4D13927FB3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