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30968"/>
        <c:axId val="62651115"/>
      </c:barChart>
      <c:catAx>
        <c:axId val="46430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51115"/>
        <c:crosses val="autoZero"/>
        <c:auto val="1"/>
        <c:lblAlgn val="ctr"/>
        <c:lblOffset val="100"/>
        <c:noMultiLvlLbl val="0"/>
      </c:catAx>
      <c:valAx>
        <c:axId val="62651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30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B69-C289-4659-909A-43D27F3D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7E8-2972-49F9-B6C6-9AF1D751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89C-2741-4C63-B65F-C31CD1BA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82D-EA7C-4FD5-95CD-C4F6F9F3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FED-DB2E-43F5-AB03-1ED351F9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938-5B44-41B5-BBF2-7C0E4E0E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A64-3B48-4BEF-91E0-5755715E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112-F160-44ED-8F2C-7836F943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A09-7FF2-44E2-A8FE-CA5C99E1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F27-B3BA-43AB-8F8D-3C7CA0E5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82A-81AA-43F3-A670-48759306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4DE-97C9-4B5C-A064-EA06B46C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13349-074D-4C6A-B91F-FF32B999EC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