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40314"/>
        <c:axId val="93567873"/>
      </c:barChart>
      <c:catAx>
        <c:axId val="25540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7873"/>
        <c:crosses val="autoZero"/>
        <c:auto val="1"/>
        <c:lblAlgn val="ctr"/>
        <c:lblOffset val="100"/>
        <c:noMultiLvlLbl val="0"/>
      </c:catAx>
      <c:valAx>
        <c:axId val="93567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40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817-426E-4BDF-8C0E-742A41F4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8F6-BE85-4528-95B0-CA57920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604-CDF2-4156-B15C-D8154BE7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BFA-CA7F-49E7-987D-B9621851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EE7-31A7-4F01-BCE9-FF501FB1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179-47CC-4065-BC9E-0BEB4A2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4DC-E19B-44C6-86EE-93C23140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5E5-2DA6-48A3-8AF2-E315670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518-0D30-4CD8-8247-81EDD29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4AA-D572-4445-A2D3-C98FC96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CFD-735A-4EE9-80D2-6B8A036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480-D30A-4513-9B98-5DDAD2A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6CD5B-5605-4BB7-AA59-27E327C5D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