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3561"/>
        <c:axId val="66705398"/>
      </c:barChart>
      <c:catAx>
        <c:axId val="4753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05398"/>
        <c:crosses val="autoZero"/>
        <c:auto val="1"/>
        <c:lblAlgn val="ctr"/>
        <c:lblOffset val="100"/>
        <c:noMultiLvlLbl val="0"/>
      </c:catAx>
      <c:valAx>
        <c:axId val="66705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3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C5F-8774-4DFE-83BA-9E29AECA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E4E-DC02-4F1E-AD7D-3E090C14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6E2-33ED-43F6-8AB3-047AD9EB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038-73CE-41A2-BD03-0818AECA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1EF-66F9-4D67-AB40-1EC19477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9A3-53CC-4AA1-AAFB-861CB828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0BC-6E2E-473F-A1F7-9FF13DC9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604-238B-4F9B-BA75-938E2ABD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B6F-7E85-4A02-B40A-F1D5040E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9DB-66ED-4E92-B4DE-85EBE0F8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8D0-4ADF-455F-BD5B-06526AD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B9C-DBF7-4F5C-AC72-84E6580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AA503-D0B8-41AA-9974-010651DBF7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