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550689"/>
        <c:axId val="53161642"/>
      </c:barChart>
      <c:catAx>
        <c:axId val="185506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161642"/>
        <c:crosses val="autoZero"/>
        <c:auto val="1"/>
        <c:lblAlgn val="ctr"/>
        <c:lblOffset val="100"/>
        <c:noMultiLvlLbl val="0"/>
      </c:catAx>
      <c:valAx>
        <c:axId val="531616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506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93EE-248F-4EBA-BC37-23605B9E9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CB69-05A0-49E4-A3FB-49E09986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76E8-306B-4EFD-B054-6A474AC20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5294-5C42-4CED-9FF4-FE2FD6379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DCF3-89B4-47D6-B521-9CFB5B14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F25E-6180-4096-B09C-B318A6E9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D888-1409-4A10-AADC-031EB080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F85F-C6C9-462E-9C09-6EC576F0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2A13-080D-4D6E-94FE-D7B1EB25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B42E-C63B-44E1-80EC-C2BE3003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BBAB-A28F-4F67-87EC-29C4E5A6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8F29-2C49-463D-ADB5-F55349D1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D308F1-FA32-47BC-8A30-6693B65C83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