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95426"/>
        <c:axId val="67064334"/>
      </c:barChart>
      <c:catAx>
        <c:axId val="95395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64334"/>
        <c:crosses val="autoZero"/>
        <c:auto val="1"/>
        <c:lblAlgn val="ctr"/>
        <c:lblOffset val="100"/>
        <c:noMultiLvlLbl val="0"/>
      </c:catAx>
      <c:valAx>
        <c:axId val="67064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95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2BD-FD72-459A-BF46-76669467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A34-C9DB-4E86-A375-C8ADE7F1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381-D54E-4C54-B828-108A1895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16A-67C2-47FF-AA0D-343AF447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652-0FD6-413F-B8AC-5BB08ADB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6DA-096F-4977-BA6A-C686E8C7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47E-BEBB-4E6D-A9B2-51072431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DCF-1E3F-4B28-9826-307FBB4A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4BE-0207-4E84-A4B0-09F8159C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F24-5FBE-4EFF-9A00-1E1FFAE6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2C1-CA85-41D2-94E7-95C8FDE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0D6-33AA-4FEF-9739-B74846D9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33FF6-5A53-4E7E-889B-2CFA3B1D67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