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66229"/>
        <c:axId val="35247118"/>
      </c:barChart>
      <c:catAx>
        <c:axId val="26966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47118"/>
        <c:crosses val="autoZero"/>
        <c:auto val="1"/>
        <c:lblAlgn val="ctr"/>
        <c:lblOffset val="100"/>
        <c:noMultiLvlLbl val="0"/>
      </c:catAx>
      <c:valAx>
        <c:axId val="35247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66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2AA-5370-4081-ADC7-9BE10833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05B-B05E-453A-B1F2-DA6B9F7A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C82-12C1-4A99-A4EF-DB68ED92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B23-47DC-4BB7-A50F-2C7572BD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2C6-384B-455E-BD53-61E884B2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43B-A115-4BCF-9E55-FCD54749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8A4-7D56-4D84-9E31-0BF45203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732-234B-4DB3-BA76-74895BFC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EC6-205F-4669-87CC-E0E8B837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C4F-A0A0-42E9-BDAD-9F017F5D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117-7020-498B-86F6-BE26A0A5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82C-D20C-4757-8CC5-44D04B5C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4E858-534D-495E-AEE8-4B51B30710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