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97318"/>
        <c:axId val="55586254"/>
      </c:barChart>
      <c:catAx>
        <c:axId val="11597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86254"/>
        <c:crosses val="autoZero"/>
        <c:auto val="1"/>
        <c:lblAlgn val="ctr"/>
        <c:lblOffset val="100"/>
        <c:noMultiLvlLbl val="0"/>
      </c:catAx>
      <c:valAx>
        <c:axId val="55586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97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E72-16AB-4519-B18A-DA35C987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E42-B3D1-4C0F-B10D-3D8BE63B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762-0595-4DCA-8F80-2138F127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6A6-109C-48FE-BC72-9CFE3AD2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B7A-D9A1-4DF8-A338-99C3F11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C44-A662-40C0-B3E3-0FA22EE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51C-EC57-42A7-A06E-F6257024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BA6-0ADA-4BC2-AD26-D37CDC9D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CE2-DDFC-46A4-A60B-CED7984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67D-C2F7-4A17-A985-B2B2BB2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62E-7448-46C0-8E1B-35FCF87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0DD-1F18-4D03-8A8C-4513021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57E31-FC7F-44FA-AFE8-9E7D5F058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