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39044"/>
        <c:axId val="90751104"/>
      </c:barChart>
      <c:catAx>
        <c:axId val="35239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51104"/>
        <c:crosses val="autoZero"/>
        <c:auto val="1"/>
        <c:lblAlgn val="ctr"/>
        <c:lblOffset val="100"/>
        <c:noMultiLvlLbl val="0"/>
      </c:catAx>
      <c:valAx>
        <c:axId val="90751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39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970-4393-49D2-977C-12D7DA59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358-59F9-4F4F-9D6A-4CBE4A99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792-3E4D-4D5A-BEE2-53452743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12B-4405-4A57-B2A1-0777EC57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59C-1B67-4A7D-856E-7CC9B47C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C38-8357-4F8D-B6AB-8309ECEB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FF8-C547-4730-B3F4-019D2627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512-25E8-4ED9-9921-C20259EE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31F-95D9-43DB-AA20-ADA9A0EA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CE6-CD01-4C60-ABC3-5C30C4C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972-99EB-4FBF-85A7-DA938F96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502-530A-4F1B-AD77-734F7613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895B4-486B-4314-9C65-AE30D4935E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